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339-C458-4C8B-85AB-D4AA3AD9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FD4-0355-4F8F-8E2C-D474AEE9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5AE-F7EF-4884-8FE8-C73755ED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50E-0EBF-44C1-9262-C7BA30C3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B30-3E8B-4B94-81A6-71AF822B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80F-16BC-451F-89EA-F695CA1C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EA3-7615-419D-979F-376C92F5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DC2-74F2-4DB3-9F2A-A0D1517B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008-2E88-41AA-9F74-6291F742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4DA-16BD-468E-A332-222AAABC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042-B342-4D68-9E90-27ACE80E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22D-3635-437D-AE5F-AF1A441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6BF2-5136-442A-A278-8E5E01BA2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06440"/>
            <a:ext cx="6400800" cy="8432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29000" y="533520"/>
          <a:ext cx="290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33520"/>
                    <a:ext cx="290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590920" y="6248520"/>
          <a:ext cx="3962160" cy="25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6248520"/>
                    <a:ext cx="396216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57200" y="533520"/>
            <a:ext cx="3276720" cy="990360"/>
          </a:xfrm>
          <a:prstGeom prst="wedgeRoundRectCallout">
            <a:avLst>
              <a:gd name="adj1" fmla="val 48208"/>
              <a:gd name="adj2" fmla="val 89263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gior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i ch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048120"/>
            <a:ext cx="3124440" cy="990360"/>
          </a:xfrm>
          <a:prstGeom prst="wedgeRoundRectCallout">
            <a:avLst>
              <a:gd name="adj1" fmla="val 97611"/>
              <a:gd name="adj2" fmla="val -2612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!  E t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876920"/>
            <a:ext cx="5638680" cy="1295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iacer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2T21:20:58Z</dcterms:created>
  <dc:creator>Preferred Customer</dc:creator>
  <dc:description/>
  <dc:language>en-US</dc:language>
  <cp:lastModifiedBy>Preferred Customer</cp:lastModifiedBy>
  <dcterms:modified xsi:type="dcterms:W3CDTF">2003-04-01T03:16:21Z</dcterms:modified>
  <cp:revision>5</cp:revision>
  <dc:subject/>
  <dc:title>No Slide Title</dc:title>
</cp:coreProperties>
</file>